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3D54-63A7-4119-808D-54860773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32E4-493C-4F37-94DC-06A14C7F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8729-B107-4869-841A-1B5B8102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5126-2822-4F2A-8B39-953DF6D6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C026-1FF5-4BA6-A93E-7F18F234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A9E3-6554-429E-B8FE-51CB9B16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15EF-40AF-45F3-B70C-20B92DBE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E1EF-7F96-446E-9F6C-21C685D7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925C-1D78-4A08-89E7-5D3F498A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93E8-7F20-4751-8846-B2537C1D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4E99-C819-45CE-9A25-3558CAFE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ECEE-0424-4D09-A769-9CB0A610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5CFF-3E2B-473F-9FC9-8C942A15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A2D5-E740-401F-B82E-1EA94F0D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207E-33DB-4858-9AC5-06A0267F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6025-CA34-46D4-8381-41A4BB75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3DEA-71EE-45A4-833A-7B4A74B9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7998-9283-49A1-8FD6-49A195D3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A3D5-D725-4902-9213-A17BAD32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3CF1-298F-4003-9FF2-BE1D96DF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4409-C501-4CBB-8003-1193A87B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B45E-C9AA-48E9-B6F5-59FCBEAB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22F-EA43-4C86-8351-2477D2CE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55C9-2C5C-40D8-B105-98B02C94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E28B-048D-4B79-A362-7A283696D013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B503-BCD2-4C40-A48D-65FF994F8B2C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eilnacht.com/cdrom.htm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066160" y="0"/>
            <a:ext cx="1077840" cy="1800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ccecff"/>
                </a:solidFill>
                <a:uFillTx/>
                <a:latin typeface="Arial"/>
              </a:rPr>
              <a:t>Formaldehyd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ederike Hillerma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ie kann ich es nachweise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er Nachweis erfolgt mit Schiffs Reagen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st ein Aldehyd enthalten, färbt sich die farblose Lösung violet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1557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Bild vergrößern!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3357720"/>
            <a:ext cx="6985080" cy="3500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Inhal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as ist ein Formaldehy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as ist ein Aldehy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elche Eigenschaften hat 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e ist seine Entstehu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e ist seine Verwendu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elche Wirkung hat Formaldehy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e kann es hergestellt werd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238960" y="0"/>
            <a:ext cx="90504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Formaldehy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igentlich Metha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hemische Formel: HCHO oder CH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059280" y="3284640"/>
            <a:ext cx="2304720" cy="19494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8238960" y="0"/>
            <a:ext cx="90504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ccecff"/>
                </a:solidFill>
                <a:uFillTx/>
                <a:latin typeface="Arial"/>
              </a:rPr>
              <a:t>Was ist ein Aldehy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ch den Entzug von zwei Wasserstoffat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s einem primären Alkoh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 der Oxidation von Methanol mit heißem Kupferoxid entsteht zunäch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ne instabile Zwischenverbindung, die dann Wasser abspalt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ldehyd entste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238960" y="0"/>
            <a:ext cx="90504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elche Eigenschaften hat e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b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chend riech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förm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nn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melzpunkt: -92°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edepunkt: -21°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. Molekülmasse: 30,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üchtiges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chte: 0,82g/cm³ (bei -20°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388360" y="0"/>
            <a:ext cx="75564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ie ist seine Entstehung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bbauprodukt in der Nat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odukt einer unvollständigen Verbrenn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ntsteht im Stoffwechselproz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uch in Autoabga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m Tabakra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n den Fotooxidantien des Sommersm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238960" y="0"/>
            <a:ext cx="90504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ie ist seine Verwendung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lfältig eingesetzte Chemikali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leimte Produkte aus Holzwerkstof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ämmstoffe  und Ausschäummaterial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trichstof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s- und Steinwo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smet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üngemit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kam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inigungs-, Pflege. Und Desinfektionsmit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8238960" y="0"/>
            <a:ext cx="90504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Welche Wirkung hat Formaldehyd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izt bereits in geringen Mengen: Augen,     Nase und Atemwe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 verdacht krebserregend zu se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nn zu: Schlaflosigkeit, Hautreizungen, Kopfschmerzen, Allergien, Übelkeit, Asthma, Bronchitis füh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hohen Mengen kann es Lebensgefahr füh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532720" y="0"/>
            <a:ext cx="611280" cy="1270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Wie kann es hergestellt werden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ann mit oxidiertem Kupfer hergestellt wer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aucht man ein oxidiertes Kupferdrahtnetz in ein Reagenzglas mit Methanol wird das Kupferoxid des Drahtnetzes wieder zu Kupfer reduzier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ährend das abgegeben Sauerstoffatom zuerst eine instabile Zwischenverbindung bild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unter Wasserabspaltung entsteht Meth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16574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44560" y="324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44560" y="324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5589720"/>
            <a:ext cx="89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3T06:14:51Z</dcterms:created>
  <dc:creator>P2800</dc:creator>
  <dc:description/>
  <dc:language>en-US</dc:language>
  <cp:lastModifiedBy>a</cp:lastModifiedBy>
  <dcterms:modified xsi:type="dcterms:W3CDTF">2006-03-15T14:18:21Z</dcterms:modified>
  <cp:revision>7</cp:revision>
  <dc:subject/>
  <dc:title>Formaldehyd</dc:title>
</cp:coreProperties>
</file>